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E4A-9431-4510-97D1-A4C6ED37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384-FAA6-4A64-9115-74B10388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32C-C774-4A70-A15B-03D3B668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345-D570-422C-A476-DBEAF3EE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95C-46DF-4A3C-B634-EDF99021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5B6-A8E5-4449-8D11-BA50C257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C1C-8EC5-49CC-9A61-0642CDF4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751-CFCC-4BDD-BBD3-C588C6E8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18F-D0B9-4938-88E7-2FD1B509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FDF8-1D51-4BD5-AB20-2EBDC63F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743-4C64-4D42-8883-F74988C2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CE5-FEA3-4D14-A605-F77F45C8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E3CA-56C1-4B1A-B794-198077825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ller Intervention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benefits: raises water productivity; double the cropping season and thus yields; greater food security and cash income; high value crops; integration with other components (fruit trees, legumes, grains, fod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Issues: siltation; upstream/downstream conflicts and competition; glut on market; equity issues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ofore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soil fertility; reduce soil erosion; cash income; food; fodder; construction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practices: improved fallow; trees on farm; woodlots; fencing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competition over limited space; ownership of trees; establishment challenges (management, livestock predation); labor; access to see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high yielding varieties increasing harvest for food and cash; fodder; fuel; that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access to markets for inputs (fertilizer, herbicides); land preparation and management; trade-offs of improved variety for grain versus fodder needs; quality of grain affected b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 and sweet potato benefits: high value per unit of water; can store in field; food security – fills hunger gap; cash crop not as affected by global price fluctuations; high yielding ‘lazy farmer’ crop; drought resistant; relay crop; good in rotation; use of residual soil moisture; dual purpose – fodder and food; Vitamin A from orange-fleshed sweet potato – addressed malnutrition; new storag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torage, weight-distance to market, rainy season spoilage (though improved varieties address this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e Ri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yield increases; improved water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oils; slope;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for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a conceptual framework to rapidly assess complex system to determine possible i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facilita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or and Institution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on the process: what are the impacts of the conceptual approach and implementation on the project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best approach and operationalize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1:09:35Z</dcterms:created>
  <dc:creator>Katherine</dc:creator>
  <dc:description/>
  <dc:language>en-US</dc:language>
  <cp:lastModifiedBy>Katherine</cp:lastModifiedBy>
  <dcterms:modified xsi:type="dcterms:W3CDTF">2012-02-01T12:21:20Z</dcterms:modified>
  <cp:revision>7</cp:revision>
  <dc:subject/>
  <dc:title>‘Killer Interventions’</dc:title>
</cp:coreProperties>
</file>